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57C-903C-45CC-88E0-AD73A558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4BB-457E-4949-97A7-EA9E19FD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98B-F3DB-4F1A-BF48-DE349D6C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5D4-DF23-4998-A608-2DDD7C4D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1C3-38D6-4BAF-8B48-98ABDE2C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28C-FCB4-4880-AC7F-D4458A14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C4A-8CEC-48DB-9393-AF34E39B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32C-ECF1-4654-9025-94AA318D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E2D-7CF7-4916-B6CF-66231DF1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540-FA9C-40BE-8AA2-EF9BCA78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1BC-5600-45C8-B0B2-22F90D17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2C3-F1B2-472A-B1E6-BDBF924F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FB10-2A3E-4810-92AD-4B77F8F35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r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ar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ar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ar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ar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ar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r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r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ar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ar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r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Mar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ar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r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ar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r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r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ar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ar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10:09Z</dcterms:created>
  <dc:creator>fabio.medessi</dc:creator>
  <dc:description/>
  <dc:language>en-US</dc:language>
  <cp:lastModifiedBy>fabio.medessi</cp:lastModifiedBy>
  <dcterms:modified xsi:type="dcterms:W3CDTF">2010-07-20T08:10:15Z</dcterms:modified>
  <cp:revision>1</cp:revision>
  <dc:subject/>
  <dc:title>Presentazione di PowerPoint</dc:title>
</cp:coreProperties>
</file>